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E41-F53B-41D1-BC26-7E01C701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7C8-BEC3-4346-8CB9-4407BD38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784-7286-4164-BC6E-8888EA42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329-1FCC-49BD-A087-CB90CA8C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5D3-10E1-4D35-978B-9ABFE5AC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2E26-2998-487A-B180-DE299372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588A-6F89-42B0-965C-FBB7162C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E16D-4C22-43AC-AEBA-50AF338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8D2D-241E-401D-A96C-E191BAEC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1AFD-F3E2-44EA-8108-A07F31CE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A6E-C182-434D-8AEC-5E47010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DD3-7500-4F29-A8AA-31046C9D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946-13DD-43AA-949F-A7EFC60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DDF-0F6A-4584-B058-8318D2A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BBDC-D23C-4E4B-9AA4-EDDC6E6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71F-6AAE-4BC9-83C3-61A146FC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F67-AFA1-4D15-A537-4C0143D3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EF4-9DDF-45F4-BBA8-B31DEBF8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C37-257E-4656-BFBE-EE63EA3B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B2A-12D6-4C6F-8B2E-74362CFF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339-CDE5-4F66-AEB3-3D6F6A0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F7F-4675-4E67-9280-314D447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B9D-C469-4BCB-A934-66D1ABC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40E-99BD-4F1E-909B-3B0E59B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94A5-0956-4BFD-A296-E337CE563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1B46-54D0-41AB-97C4-10EECD5ED6D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review.com/_gallery/_LG/5815440.jpg&amp;imgrefurl=http://www.clipartreview.com/_gallery/_pages/5815440.html&amp;h=244&amp;w=350&amp;sz=25&amp;tbnid=a0lq1wDv0H0J:&amp;tbnh=80&amp;tbnw=116&amp;hl=en&amp;start=24&amp;prev=/images%3Fq%3Dlunch%2Band%2Bclipart%26start%3D20%26svnum%3D10%26hl%3Den%26lr%3Dlang_en%7Clang_es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enda.com/images/pix_paella.jpg&amp;imgrefurl=http://www.tienda.com/food/paella.html&amp;h=172&amp;w=220&amp;sz=48&amp;tbnid=709lojorP3oJ:&amp;tbnh=79&amp;tbnw=102&amp;hl=en&amp;start=8&amp;prev=/images%3Fq%3Dpaella%26svnum%3D10%26hl%3Den%26lr%3Dlang_en%7Clang_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abcasiapacific.com/englishbites/img4/4ep067_rolls.gif&amp;imgrefurl=http://abcasiapacific.com/englishbites/stories/s1402129.htm&amp;h=144&amp;w=180&amp;sz=11&amp;tbnid=xn5Pg5jUgCQJ:&amp;tbnh=76&amp;tbnw=96&amp;hl=en&amp;start=25&amp;prev=/images%3Fq%3Dbread%2Band%2Broll%26start%3D20%26svnum%3D10%26hl%3Den%26lr%3Dlang_en%7Clang_es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perso.wanadoo.fr/patzcuaro/mx/09/fotos/sopa%2520tarasca%252001.jpg&amp;imgrefurl=http://perso.wanadoo.fr/patzcuaro/mx/09/mx/09gast29.htm&amp;h=259&amp;w=370&amp;sz=17&amp;tbnid=Om4CA7eY4UYJ:&amp;tbnh=82&amp;tbnw=118&amp;hl=en&amp;start=11&amp;prev=/images%3Fq%3Dsopa%26svnum%3D10%26hl%3Den%26lr%3Dlang_en%7Clang_es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14"/>
                </a:solidFill>
                <a:latin typeface="Comic Sans MS"/>
              </a:rPr>
              <a:t>LAS COMID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3" descr="5815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179880"/>
            <a:ext cx="53341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NTREVIS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PERSONA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¿A qué hora comes  el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almuerzo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ERSONA </a:t>
            </a: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:  A la una por la tarde. (1pm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B: 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¿A qué hora comes el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almuerzo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PERSONA</a:t>
            </a: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 A: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A las dos por la tarde. (2pm)</a:t>
            </a: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1: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la gente come el almuerzo entre las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dos y cuatro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 por la tarde (2-4pm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2: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la gente come la cena a eso de las</a:t>
            </a:r>
            <a:r>
              <a:rPr b="1" i="1" lang="es-AR" sz="36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diez 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por la noche (10pm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Comic Sans MS"/>
              </a:rPr>
              <a:t>#3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la gente come 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mucho</a:t>
            </a: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 para el almuerzo.  Este es un almuerzo tipico en Espa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ña</a:t>
            </a: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5" descr="pix_pael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457200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4ep067_ro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720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sopa%2520tarasca%2520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4572000"/>
            <a:ext cx="2210040" cy="174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foto_arroz_con_leche"/>
          <p:cNvPicPr/>
          <p:nvPr/>
        </p:nvPicPr>
        <p:blipFill>
          <a:blip r:embed="rId7"/>
          <a:stretch/>
        </p:blipFill>
        <p:spPr>
          <a:xfrm>
            <a:off x="7010280" y="4572000"/>
            <a:ext cx="21337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4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el almuerzo es la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comida principal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. La gente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se visita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 durante el almuerzo y come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mucho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92929"/>
                </a:solidFill>
                <a:latin typeface="Comic Sans MS"/>
              </a:rPr>
              <a:t>#5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la gente come el almuerzo </a:t>
            </a:r>
            <a:r>
              <a:rPr b="1" i="1" lang="es-ES" sz="3600" spc="-1" strike="noStrike">
                <a:solidFill>
                  <a:srgbClr val="cc9900"/>
                </a:solidFill>
                <a:latin typeface="Comic Sans MS"/>
              </a:rPr>
              <a:t>en una hora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 y a veces más (2,3,4 horas…).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el almuerzo usualmente </a:t>
            </a:r>
            <a:r>
              <a:rPr b="1" i="1" lang="es-ES" sz="3600" spc="-1" strike="noStrike">
                <a:solidFill>
                  <a:srgbClr val="cc9900"/>
                </a:solidFill>
                <a:latin typeface="Comic Sans MS"/>
              </a:rPr>
              <a:t>no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 es menos de una hora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0:11:26Z</dcterms:created>
  <dc:creator>Sara White</dc:creator>
  <dc:description/>
  <dc:language>en-US</dc:language>
  <cp:lastModifiedBy>Karen Murano</cp:lastModifiedBy>
  <dcterms:modified xsi:type="dcterms:W3CDTF">2011-09-23T02:31:16Z</dcterms:modified>
  <cp:revision>28</cp:revision>
  <dc:subject/>
  <dc:title>EL ALMUERZO</dc:title>
</cp:coreProperties>
</file>